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gif" ContentType="image/gif"/>
  <Override PartName="/ppt/media/image9.wmf" ContentType="image/x-wmf"/>
  <Override PartName="/ppt/media/image6.gif" ContentType="image/gi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24.png" ContentType="image/png"/>
  <Override PartName="/ppt/media/image1.png" ContentType="image/png"/>
  <Override PartName="/ppt/media/image4.gif" ContentType="image/gi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B2C-C6C1-4E60-8C2A-855227D0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81B-C8F6-4345-943F-CFF5914D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1D2-97A4-4B11-846A-FAAB7E9E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65A-C7B6-4298-B29D-D6145104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2438-B8B6-42CA-9C60-5A2C6764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904-0BB0-4959-9214-E11BEABD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1087-2542-419E-B261-B1D595B6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035A-298A-4E14-A91B-2549C70E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83C6-825C-40E6-B860-AA290C5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DD62-54F6-4134-AC6C-448814D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073-453A-4485-9D7B-D6933CE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B05-4377-4991-8C1D-B502B25F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777-BC9F-40D2-BDF8-E5C40BB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9F9D-E4E8-4D26-90C7-C623A0D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394C-8B71-43D8-84B0-15AD4AE9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AE13-64E9-4DC0-82BB-A1DE58D7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EBA8-2FE0-450F-9069-871FAE12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3ED-BA20-4FED-B036-9744F6F0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933-9360-4F29-8AD0-EBA247CD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05E-069C-43A7-96AB-5066C626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E65-070B-4931-B57A-630678B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0B3-C282-4531-9DED-E3DAD2B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0AE-190D-4289-B0B4-B8C03577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AB5-C3E9-41F5-8ADC-F82FAB5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9AD-D881-430D-AC36-EF699A5EE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B05E-639B-4E10-A9BA-A62EAAD8F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gif"/><Relationship Id="rId3" Type="http://schemas.openxmlformats.org/officeDocument/2006/relationships/slide" Target="slide13.xml"/><Relationship Id="rId4" Type="http://schemas.openxmlformats.org/officeDocument/2006/relationships/image" Target="../media/image7.gif"/><Relationship Id="rId5" Type="http://schemas.openxmlformats.org/officeDocument/2006/relationships/slide" Target="slide12.xml"/><Relationship Id="rId6" Type="http://schemas.openxmlformats.org/officeDocument/2006/relationships/image" Target="../media/image9.wmf"/><Relationship Id="rId7" Type="http://schemas.openxmlformats.org/officeDocument/2006/relationships/slide" Target="slide13.xml"/><Relationship Id="rId8" Type="http://schemas.openxmlformats.org/officeDocument/2006/relationships/image" Target="../media/image8.jpeg"/><Relationship Id="rId9" Type="http://schemas.openxmlformats.org/officeDocument/2006/relationships/oleObject" Target="../embeddings/oleObject1.bin"/><Relationship Id="rId10" Type="http://schemas.openxmlformats.org/officeDocument/2006/relationships/slide" Target="slide13.xml"/><Relationship Id="rId11" Type="http://schemas.openxmlformats.org/officeDocument/2006/relationships/image" Target="../media/image10.wmf"/><Relationship Id="rId12" Type="http://schemas.openxmlformats.org/officeDocument/2006/relationships/slide" Target="slide13.xm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gif"/><Relationship Id="rId3" Type="http://schemas.openxmlformats.org/officeDocument/2006/relationships/slide" Target="slide16.xml"/><Relationship Id="rId4" Type="http://schemas.openxmlformats.org/officeDocument/2006/relationships/image" Target="../media/image7.gif"/><Relationship Id="rId5" Type="http://schemas.openxmlformats.org/officeDocument/2006/relationships/slide" Target="slide12.xml"/><Relationship Id="rId6" Type="http://schemas.openxmlformats.org/officeDocument/2006/relationships/image" Target="../media/image9.wmf"/><Relationship Id="rId7" Type="http://schemas.openxmlformats.org/officeDocument/2006/relationships/slide" Target="slide15.xml"/><Relationship Id="rId8" Type="http://schemas.openxmlformats.org/officeDocument/2006/relationships/image" Target="../media/image8.jpeg"/><Relationship Id="rId9" Type="http://schemas.openxmlformats.org/officeDocument/2006/relationships/oleObject" Target="../embeddings/oleObject1.bin"/><Relationship Id="rId10" Type="http://schemas.openxmlformats.org/officeDocument/2006/relationships/slide" Target="slide16.xml"/><Relationship Id="rId11" Type="http://schemas.openxmlformats.org/officeDocument/2006/relationships/image" Target="../media/image10.wmf"/><Relationship Id="rId12" Type="http://schemas.openxmlformats.org/officeDocument/2006/relationships/slide" Target="slide16.xm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6.gif"/><Relationship Id="rId3" Type="http://schemas.openxmlformats.org/officeDocument/2006/relationships/slide" Target="slide19.xml"/><Relationship Id="rId4" Type="http://schemas.openxmlformats.org/officeDocument/2006/relationships/image" Target="../media/image7.gif"/><Relationship Id="rId5" Type="http://schemas.openxmlformats.org/officeDocument/2006/relationships/slide" Target="slide19.xml"/><Relationship Id="rId6" Type="http://schemas.openxmlformats.org/officeDocument/2006/relationships/image" Target="../media/image9.wmf"/><Relationship Id="rId7" Type="http://schemas.openxmlformats.org/officeDocument/2006/relationships/slide" Target="slide19.xml"/><Relationship Id="rId8" Type="http://schemas.openxmlformats.org/officeDocument/2006/relationships/image" Target="../media/image8.jpeg"/><Relationship Id="rId9" Type="http://schemas.openxmlformats.org/officeDocument/2006/relationships/oleObject" Target="../embeddings/oleObject1.bin"/><Relationship Id="rId10" Type="http://schemas.openxmlformats.org/officeDocument/2006/relationships/slide" Target="slide19.xml"/><Relationship Id="rId11" Type="http://schemas.openxmlformats.org/officeDocument/2006/relationships/image" Target="../media/image10.wmf"/><Relationship Id="rId12" Type="http://schemas.openxmlformats.org/officeDocument/2006/relationships/slide" Target="slide19.xm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9.wmf"/><Relationship Id="rId4" Type="http://schemas.openxmlformats.org/officeDocument/2006/relationships/image" Target="../media/image8.jpeg"/><Relationship Id="rId5" Type="http://schemas.openxmlformats.org/officeDocument/2006/relationships/oleObject" Target="../embeddings/oleObject1.bin"/><Relationship Id="rId6" Type="http://schemas.openxmlformats.org/officeDocument/2006/relationships/slide" Target="slide22.xml"/><Relationship Id="rId7" Type="http://schemas.openxmlformats.org/officeDocument/2006/relationships/image" Target="../media/image10.wmf"/><Relationship Id="rId8" Type="http://schemas.openxmlformats.org/officeDocument/2006/relationships/slide" Target="slide21.xml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9.wmf"/><Relationship Id="rId5" Type="http://schemas.openxmlformats.org/officeDocument/2006/relationships/image" Target="../media/image6.gi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5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8.jpeg"/><Relationship Id="rId7" Type="http://schemas.openxmlformats.org/officeDocument/2006/relationships/image" Target="../media/image17.jpeg"/><Relationship Id="rId8" Type="http://schemas.openxmlformats.org/officeDocument/2006/relationships/image" Target="../media/image15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3.png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791320" cy="3949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cc6600"/>
                </a:solidFill>
                <a:latin typeface="Times New Roman"/>
              </a:rPr>
              <a:t>Quel temps fait-il?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870280" cy="295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191120" y="2438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Il fait chau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y a du sole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548640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09480" y="54864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10800"/>
                </a:moveTo>
                <a:lnTo>
                  <a:pt x="23201" y="3794"/>
                </a:lnTo>
                <a:lnTo>
                  <a:pt x="23201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8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y a des orag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7620120" y="56386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21039" y="10800"/>
                </a:lnTo>
                <a:lnTo>
                  <a:pt x="702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5800" y="54100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95" h="21600">
                <a:moveTo>
                  <a:pt x="11641" y="10800"/>
                </a:moveTo>
                <a:lnTo>
                  <a:pt x="25654" y="3794"/>
                </a:lnTo>
                <a:lnTo>
                  <a:pt x="25654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8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pleu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"/>
          <p:cNvSpPr/>
          <p:nvPr/>
        </p:nvSpPr>
        <p:spPr>
          <a:xfrm>
            <a:off x="7315200" y="53341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33520" y="556272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10800"/>
                </a:moveTo>
                <a:lnTo>
                  <a:pt x="27623" y="3794"/>
                </a:lnTo>
                <a:lnTo>
                  <a:pt x="27623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676160" cy="1238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1401840" cy="1508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505320" y="1219320"/>
            <a:ext cx="1112760" cy="1806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5867280" y="4267080"/>
            <a:ext cx="2590920" cy="1737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715000" y="1447920"/>
            <a:ext cx="1992240" cy="189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1676520" y="4495680"/>
            <a:ext cx="2057400" cy="1828800"/>
          </a:xfrm>
          <a:custGeom>
            <a:avLst/>
            <a:gdLst>
              <a:gd name="textAreaLeft" fmla="*/ 118440 w 2057400"/>
              <a:gd name="textAreaRight" fmla="*/ 1938960 w 20574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4299" h="21600">
                <a:moveTo>
                  <a:pt x="0" y="0"/>
                </a:moveTo>
                <a:lnTo>
                  <a:pt x="24299" y="0"/>
                </a:lnTo>
                <a:lnTo>
                  <a:pt x="24299" y="21600"/>
                </a:lnTo>
                <a:lnTo>
                  <a:pt x="0" y="21600"/>
                </a:lnTo>
                <a:close/>
              </a:path>
              <a:path fill="lightenLess" w="24299" h="21600">
                <a:moveTo>
                  <a:pt x="0" y="0"/>
                </a:moveTo>
                <a:lnTo>
                  <a:pt x="24299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299" h="21600">
                <a:moveTo>
                  <a:pt x="24299" y="0"/>
                </a:moveTo>
                <a:lnTo>
                  <a:pt x="24299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299" h="21600">
                <a:moveTo>
                  <a:pt x="24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3962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7" action="ppaction://hlinksldjump"/>
          </p:cNvPr>
          <p:cNvSpPr/>
          <p:nvPr/>
        </p:nvSpPr>
        <p:spPr>
          <a:xfrm>
            <a:off x="1676520" y="4486320"/>
            <a:ext cx="2057400" cy="1838160"/>
          </a:xfrm>
          <a:custGeom>
            <a:avLst/>
            <a:gdLst>
              <a:gd name="textAreaLeft" fmla="*/ 118800 w 2057400"/>
              <a:gd name="textAreaRight" fmla="*/ 1938600 w 2057400"/>
              <a:gd name="textAreaTop" fmla="*/ 118800 h 1838160"/>
              <a:gd name="textAreaBottom" fmla="*/ 1719360 h 1838160"/>
            </a:gdLst>
            <a:ahLst/>
            <a:rect l="textAreaLeft" t="textAreaTop" r="textAreaRight" b="textAreaBottom"/>
            <a:pathLst>
              <a:path w="24176" h="21600">
                <a:moveTo>
                  <a:pt x="0" y="0"/>
                </a:moveTo>
                <a:lnTo>
                  <a:pt x="24176" y="0"/>
                </a:lnTo>
                <a:lnTo>
                  <a:pt x="24176" y="21600"/>
                </a:lnTo>
                <a:lnTo>
                  <a:pt x="0" y="21600"/>
                </a:lnTo>
                <a:close/>
              </a:path>
              <a:path fill="lightenLess" w="24176" h="21600">
                <a:moveTo>
                  <a:pt x="0" y="0"/>
                </a:moveTo>
                <a:lnTo>
                  <a:pt x="24176" y="0"/>
                </a:lnTo>
                <a:lnTo>
                  <a:pt x="22776" y="1400"/>
                </a:lnTo>
                <a:lnTo>
                  <a:pt x="1400" y="1400"/>
                </a:lnTo>
                <a:close/>
              </a:path>
              <a:path fill="darken" w="24176" h="21600">
                <a:moveTo>
                  <a:pt x="24176" y="0"/>
                </a:moveTo>
                <a:lnTo>
                  <a:pt x="24176" y="21600"/>
                </a:lnTo>
                <a:lnTo>
                  <a:pt x="22776" y="20200"/>
                </a:lnTo>
                <a:lnTo>
                  <a:pt x="22776" y="1400"/>
                </a:lnTo>
                <a:close/>
              </a:path>
              <a:path fill="darkenLess" w="24176" h="21600">
                <a:moveTo>
                  <a:pt x="2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6" y="20200"/>
                </a:lnTo>
                <a:close/>
              </a:path>
              <a:path fill="lighten" w="2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2819520" y="3962520"/>
            <a:ext cx="194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10666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y a du brouilla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5562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3794"/>
                </a:moveTo>
                <a:lnTo>
                  <a:pt x="23696" y="10800"/>
                </a:lnTo>
                <a:lnTo>
                  <a:pt x="968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33520" y="54864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2" h="21600">
                <a:moveTo>
                  <a:pt x="11644" y="10800"/>
                </a:moveTo>
                <a:lnTo>
                  <a:pt x="25657" y="3794"/>
                </a:lnTo>
                <a:lnTo>
                  <a:pt x="25657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324320" cy="4291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La Mété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981080"/>
            <a:ext cx="373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En Ecosse, …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895480"/>
            <a:ext cx="3962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En Irlande, …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724280"/>
            <a:ext cx="609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Au Pays de Galles, …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380988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En Angleterre,.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362320"/>
            <a:ext cx="2819520" cy="3808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875040" y="5239440"/>
            <a:ext cx="2733840" cy="271800"/>
          </a:xfrm>
          <a:prstGeom prst="line">
            <a:avLst/>
          </a:prstGeom>
          <a:ln w="57240">
            <a:solidFill>
              <a:srgbClr val="3399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98360" y="4395600"/>
            <a:ext cx="3607920" cy="13032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58640" y="3550680"/>
            <a:ext cx="2140560" cy="5954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834840" cy="8985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914400" cy="8697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6477120" y="4724280"/>
            <a:ext cx="552240" cy="5940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6705720" y="29718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485880" cy="3468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343400" y="1219320"/>
            <a:ext cx="657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N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553080" y="3429000"/>
            <a:ext cx="657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419720" y="5562720"/>
            <a:ext cx="657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286000" y="3200400"/>
            <a:ext cx="6573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O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114300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NO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12408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’OUE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0120" y="34290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’E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5791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E S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4280" y="-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La Météo 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99072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France, il y a des orages dans le nord. Dans le sud, il fait chaud et il y a du soleil. Dans les Alpes, il fait froid et il neige. Dans l’ouest, il y a du brouillard et du vent. Dans le centre, il pl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5867280"/>
            <a:ext cx="83808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828800" y="5867280"/>
            <a:ext cx="990720" cy="831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914400" cy="8049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2971800" y="4876920"/>
            <a:ext cx="876240" cy="657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1676520" y="4800600"/>
            <a:ext cx="838080" cy="7462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380880" y="4724280"/>
            <a:ext cx="838440" cy="804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228600" y="4495680"/>
            <a:ext cx="20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819520" y="4648320"/>
            <a:ext cx="19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47920" y="4572000"/>
            <a:ext cx="19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28600" y="5715000"/>
            <a:ext cx="2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676520" y="5715000"/>
            <a:ext cx="19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8120" y="5562720"/>
            <a:ext cx="3524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156200" y="1219320"/>
          <a:ext cx="4149720" cy="487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6200" y="1219320"/>
                    <a:ext cx="41497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381880" y="914400"/>
          <a:ext cx="546120" cy="111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1880" y="914400"/>
                    <a:ext cx="5461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8458200" y="5486400"/>
          <a:ext cx="393840" cy="102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58200" y="5486400"/>
                    <a:ext cx="3938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 txBox="1"/>
          <p:nvPr/>
        </p:nvSpPr>
        <p:spPr>
          <a:xfrm>
            <a:off x="4343400" y="3048120"/>
            <a:ext cx="6573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O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248520" y="228600"/>
            <a:ext cx="657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N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486640" y="3048120"/>
            <a:ext cx="657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400800" y="5410080"/>
            <a:ext cx="657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457200" y="1523880"/>
          <a:ext cx="366696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6669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800600" y="914400"/>
          <a:ext cx="4114800" cy="533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4114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600" spc="-1" strike="noStrike">
                <a:solidFill>
                  <a:srgbClr val="cc6600"/>
                </a:solidFill>
                <a:latin typeface="Times New Roman"/>
              </a:rPr>
              <a:t>Rappel</a:t>
            </a:r>
            <a:endParaRPr b="0" i="1" lang="en-US" sz="5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2514600" y="914400"/>
          <a:ext cx="47973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14400"/>
                    <a:ext cx="47973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715000" y="5029200"/>
            <a:ext cx="838080" cy="8049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838080" cy="745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4648320" y="37339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6095880" y="3505320"/>
            <a:ext cx="990720" cy="8316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2895480" y="1981080"/>
            <a:ext cx="838440" cy="789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8"/>
          <a:stretch/>
        </p:blipFill>
        <p:spPr>
          <a:xfrm>
            <a:off x="3657600" y="2514600"/>
            <a:ext cx="876240" cy="65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6553080" y="4952880"/>
          <a:ext cx="393840" cy="102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4952880"/>
                    <a:ext cx="3938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7086600" y="3505320"/>
          <a:ext cx="4096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86600" y="3505320"/>
                    <a:ext cx="409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9" name="" descr=""/>
          <p:cNvPicPr/>
          <p:nvPr/>
        </p:nvPicPr>
        <p:blipFill>
          <a:blip r:embed="rId13"/>
          <a:stretch/>
        </p:blipFill>
        <p:spPr>
          <a:xfrm>
            <a:off x="380880" y="4572000"/>
            <a:ext cx="1828800" cy="1819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1066680" y="3886200"/>
            <a:ext cx="3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90720" y="2021040"/>
            <a:ext cx="2590560" cy="24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6095880" y="2438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u solei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2438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24382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2438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266220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324480" y="2438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u v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2438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2438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2473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486400" y="4343400"/>
            <a:ext cx="3124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brouillard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4343400"/>
            <a:ext cx="76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43434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y 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4343400"/>
            <a:ext cx="99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du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39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343400" y="2438280"/>
            <a:ext cx="525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Il y a des orages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83212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5880" y="2438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ple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1480" y="2438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284200" cy="3711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248520" y="2438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nei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2438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270240" cy="3106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191120" y="2438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Il fait fro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5:37:07Z</dcterms:created>
  <dc:creator>Bowdelo</dc:creator>
  <dc:description/>
  <dc:language>en-US</dc:language>
  <cp:lastModifiedBy>MANUEL</cp:lastModifiedBy>
  <dcterms:modified xsi:type="dcterms:W3CDTF">2008-04-14T21:46:19Z</dcterms:modified>
  <cp:revision>13</cp:revision>
  <dc:subject/>
  <dc:title>PowerPoint Presentation</dc:title>
</cp:coreProperties>
</file>